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77A-9120-4A56-BE26-F9B566CD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6587-5B12-425D-8B13-4A83A703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EFA-7E3F-4DA1-A3F8-35CA9C8A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883-9D88-490A-93A3-C0447C35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2093-52BB-47BC-A0E2-1F513A7B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58CA-9CB7-481D-81D2-B71A0763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9542-6ED9-47A3-9C15-340F1577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E824-E143-442D-949C-81A7CF7C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E80F-0AC1-4CB3-82B0-5D4071DC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8B70-F17F-413C-B8AF-5C9D776E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18A1-250B-41FC-A772-5950B2D2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CE0-EEC6-45EA-93C2-55936042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DB73-4A86-4334-9E98-ECE6CCE2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38E8-720F-4259-8E27-6C72D378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E8D2-C392-4BCB-95D4-4E10E859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2C0A-C2E7-43A9-AD19-C1BDAF25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9772-C9DC-417B-AA8D-1DAD89C9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7E8FF-673C-4B8B-8E02-A62C0C6D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94305-A3FD-4B81-BF76-F03FB144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3D23-5B43-46E0-8550-3D74DD0F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D759B-658F-423D-9262-D0709D45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4C714-A211-4766-976C-F76B926E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3C1-52CB-43F9-866C-AD5A34F5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8C8FD-3188-4B1D-9A22-1593CCA7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E03DA-DC2D-42E5-843D-14C4C181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BC041-C8D2-402C-9B71-29DA44BC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FA313-74B7-48C7-9596-8923F3E6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DB272-0F88-4F37-9E93-D7E2F56A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050B2-EFA1-41F5-9415-27E612D9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B523B-B4B9-4FAB-B618-255B911A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0E1-4996-46D3-BB04-96D89385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79C-301E-4B72-827B-B43F5E72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C95-C0A1-474F-80D1-C3746348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7EF0-FA1E-4088-8ACA-AF5BADE1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3CA-C580-4167-A797-6BA29F61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4257-B8FC-4219-B212-87F9F1D3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fld id="{B804E141-8AF5-40F6-8A95-404A42E44A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            </a:t>
            </a:r>
            <a:fld id="{6F35DEA5-25BC-4AB8-B4D4-10B608067685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4AF6-7B18-4154-882E-C7E36AD5E7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 Clase 7IL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0 de enero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Ser y Est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un compañero, 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6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55. 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escriban un dialogo de minimo 15 linea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AC2FC-2325-40AF-8AB5-7875878D564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Un Evento</a:t>
            </a:r>
            <a:r>
              <a:rPr b="0" i="1" lang="en-US" sz="72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 clas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 las och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 fiest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os conciert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el parqu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276720" y="4343400"/>
            <a:ext cx="2514600" cy="24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7B4B-16DF-41CE-AFE0-38772EA3B682}" type="slidenum">
              <a:t>10</a:t>
            </a:fld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cc00"/>
                </a:solidFill>
                <a:uFillTx/>
                <a:latin typeface="Comic Sans MS"/>
              </a:rPr>
              <a:t>La preposición “de”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Possessi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Marí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33526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Material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pupitr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metal y plástic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503520" y="4952880"/>
            <a:ext cx="2135160" cy="173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43F-C5E8-4555-B420-DA0ADEFBF503}" type="slidenum">
              <a:t>11</a:t>
            </a:fld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2872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localizació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condicione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opinione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841-635A-4682-B13C-6F291F941CA7}" type="slidenum">
              <a:t>12</a:t>
            </a:fld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Localizació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drid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Españ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is libr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¿Dónd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i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vosotros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333600" y="4730760"/>
            <a:ext cx="2475000" cy="21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795-FBC5-449A-8B70-87D9A0B1B4CC}" type="slidenum">
              <a:t>13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s Condicione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teléfon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ibre ahor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rcos y Elen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nervioso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teo siempr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content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505320" y="4495680"/>
            <a:ext cx="216360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547-BF58-4962-B1B7-A649120163F7}" type="slidenum">
              <a:t>14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9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s Opinione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u herman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bonita hoy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pescad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muy buen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Sr. Sanchez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joven cuando juega al fútbol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14400" y="4495680"/>
            <a:ext cx="201600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062-1EA6-41EE-919E-1A442CE8C50F}" type="slidenum">
              <a:t>15</a:t>
            </a:fld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1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rar el DVD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Gramática en vivo: Ser y 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Actividades 1 y 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n el 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tus compañeros de mesa, complet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Hablar 1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. 66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criban sus descripciones en sus cuader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jercicio 1-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. 67-68 (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358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Tarea # 40</a:t>
            </a:r>
            <a:endParaRPr b="0" lang="en-US" sz="4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9DF91-0D0B-479D-9B1D-ACAA06EB446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Ser y Estar</a:t>
            </a: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 en español…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7960" y="29714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Both verbs mean </a:t>
            </a:r>
            <a:r>
              <a:rPr b="0" i="1" lang="en-US" sz="2800" spc="-1" strike="noStrike">
                <a:solidFill>
                  <a:srgbClr val="f8f8f8"/>
                </a:solidFill>
                <a:latin typeface="Comic Sans MS"/>
              </a:rPr>
              <a:t>“to be”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Used in </a:t>
            </a:r>
            <a:r>
              <a:rPr b="0" i="1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very different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cas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Irregular conjugation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84400" y="2971800"/>
            <a:ext cx="281124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40A-0D09-4B28-BE9C-76A12EB4749D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¿Cuáles son las formas?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y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r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796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oy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a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a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2121120" y="236232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5767920" y="2362320"/>
            <a:ext cx="141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786-1D04-4EB5-87BA-A5D3571BE5A4}" type="slidenum">
              <a:t>3</a:t>
            </a:fld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¿Cuáles son los usos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de estos verbos?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847960" y="2286000"/>
            <a:ext cx="34466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D8F-1FA9-437A-8CAA-0C6CD121C01D}" type="slidenum">
              <a:t>4</a:t>
            </a:fld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5639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el orige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identificació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característica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hora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un evento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possession, material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C74-BE01-4A9C-B58F-4F3A19EB0A1C}" type="slidenum">
              <a:t>5</a:t>
            </a:fld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El Orige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Juan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Españ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Guatemal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is prim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Buenos Air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73480" y="4802040"/>
            <a:ext cx="2595600" cy="205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270-4A45-4912-8099-18388F5F447F}" type="slidenum">
              <a:t>6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Identificació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ú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r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a hermana de Pedr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Nosotr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mo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mericano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Sr. Ayal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profesor de español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652920" y="4572000"/>
            <a:ext cx="183816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54AE-47DA-49BA-942A-2CAADE4CB4FB}" type="slidenum">
              <a:t>7</a:t>
            </a:fld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cc00"/>
                </a:solidFill>
                <a:uFillTx/>
                <a:latin typeface="Comic Sans MS"/>
              </a:rPr>
              <a:t>Las Característica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Y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muy alto y delgad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armen y Pabl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jóven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sta clas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burrid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276720" y="4602240"/>
            <a:ext cx="2590560" cy="206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B00-5356-4940-B34D-9E336FAFC099}" type="slidenum">
              <a:t>8</a:t>
            </a:fld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Hora y la fecha</a:t>
            </a:r>
            <a:r>
              <a:rPr b="0" i="1" lang="en-US" sz="72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¿Qué hor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as tres de la tard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Hoy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l 17 de febrer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252960" y="4513320"/>
            <a:ext cx="2636640" cy="234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05D4-8C4D-4EB6-BC9A-88163E524EFB}" type="slidenum">
              <a:t>9</a:t>
            </a:fld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olseng</dc:creator>
  <dc:description/>
  <dc:language>en-US</dc:language>
  <cp:lastModifiedBy>Helen Zumaeta</cp:lastModifiedBy>
  <dcterms:modified xsi:type="dcterms:W3CDTF">2013-01-10T21:25:27Z</dcterms:modified>
  <cp:revision>87</cp:revision>
  <dc:subject/>
  <dc:title>Ser &amp; Estar</dc:title>
</cp:coreProperties>
</file>